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A1E0-4799-4857-9CBE-92CAA2C9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B243-0CF5-4FBB-9288-BBC092EE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D228-E87C-4650-8D58-5450FA18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1E5-4EBA-442E-B747-C30CF10B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0C0-435A-4D32-8667-A7AD81D8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E78-EE1B-4A96-B4DF-B3A74247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228F-34FE-42FA-9AD7-8DA16676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403-DEFC-40D7-9BE3-2CBD3B4F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3F4-2BF0-4757-AD24-975CEC4B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C17-EE91-4102-BAF6-746E1C12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BDFC-40AC-46C6-A88F-34C26868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635-4A76-4334-BD24-5C3C65A9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D77E-6C5B-47B0-A8BF-CB49EA278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0880" y="103320"/>
            <a:ext cx="621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Infections virales de l’embryon, du fœt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et du nouveau-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4320" y="1066680"/>
            <a:ext cx="8807400" cy="55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cc00"/>
                </a:solidFill>
                <a:latin typeface="Arial"/>
              </a:rPr>
              <a:t>Virus</a:t>
            </a:r>
            <a:r>
              <a:rPr b="1" lang="fr-FR" sz="18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cc00"/>
                </a:solidFill>
                <a:latin typeface="Arial"/>
              </a:rPr>
              <a:t>                        fréquence           prélèvements</a:t>
            </a:r>
            <a:r>
              <a:rPr b="1" lang="fr-FR" sz="18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cc00"/>
                </a:solidFill>
                <a:latin typeface="Arial"/>
              </a:rPr>
              <a:t>diagnostic au la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cc00"/>
                </a:solidFill>
                <a:latin typeface="Arial"/>
              </a:rPr>
              <a:t>congén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ubivirus (rubéole)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MV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+++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                         Diagnostic maternel Parvovirus B19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Liquide amniotique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posi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sang de cor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urines (CMV)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CR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érodiagnostic (Ig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utané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cc00"/>
                </a:solidFill>
                <a:latin typeface="Arial"/>
              </a:rPr>
              <a:t>périna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HSV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MV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érum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érodiagnostic (Ig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Enterovirus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   urines (CMV)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VZV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LCR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HBV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+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utané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marqueurs (HBV, HI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HIV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+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………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HCV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066680"/>
            <a:ext cx="0" cy="556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34480" y="1066680"/>
            <a:ext cx="0" cy="556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1360" y="106668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1360" y="152388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1360" y="203184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1360" y="424188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1360" y="473724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1360" y="662940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81400" y="1066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1400" y="204480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81400" y="472428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57560" y="1066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43560" y="1066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57560" y="205740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43560" y="205740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57560" y="472428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43560" y="472428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1433520"/>
            <a:ext cx="762012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Mr S. 38 ans présentant en août une fièvre, AEG, et avec un syndrome mononucléosique en hém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Etiologies et diagnostic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110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Son épouse de 31 ans est actuellement enceinte au 2eme trimestre de gross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88560" y="433080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Conduite à tenir pour Mme S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71200" y="549360"/>
            <a:ext cx="30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CAS CLINIQUE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3880" y="592200"/>
            <a:ext cx="7239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Sérologie Virale le 18/08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- EBV IgG VCA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IgM VCA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IgG EBNA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711520"/>
            <a:ext cx="4495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- CMV IgG 2.8 (&lt;0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IgM 233 (&lt;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4960" y="51588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ffff"/>
                </a:solidFill>
                <a:latin typeface="Arial"/>
                <a:ea typeface="Arial"/>
              </a:rPr>
              <a:t>Mr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3860640"/>
            <a:ext cx="3581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Sérologie CMV le 18/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IgG : 4.7 (&lt;0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IgM : 52 (&lt;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3860640"/>
            <a:ext cx="3581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Sérologie CMV le 21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IgG :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IgM : 1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5661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Avidité CMV 42,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55166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Avidité CMV 27,6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0160" y="384660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ff"/>
                </a:solidFill>
                <a:latin typeface="Arial"/>
                <a:ea typeface="Arial"/>
              </a:rPr>
              <a:t>Mme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3120" y="6084720"/>
            <a:ext cx="61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Diagnostic anté-natal et néo-nata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71920" y="93600"/>
            <a:ext cx="418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CAS CLINIQUE 5 (su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1985400"/>
            <a:ext cx="770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me D, 27 ans, est enceinte de 25 semaines. Elle est inquiète car son premier enfant de 4 ans a développé depuis deux jours une éruption maculo-papuleuse, associée à de la fièv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Quels peuvent être les virus en cause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isque de transmission materno-fœtal pour ces vir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nduite à teni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914400"/>
            <a:ext cx="351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Cas cliniqu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90920" y="549360"/>
            <a:ext cx="351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Cas cliniqu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0120" y="1773360"/>
            <a:ext cx="8472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me D., 27 ans, est enceinte de 38 SA. Elle arrive d’Afrique. Elle se présente pour la première fois dans le service d’obstétrique, qui fait un bilan biolog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pistage HIV posi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pistage HCV néga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MV IgG positif, IgM néga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ubéole IgG positif, IgM néga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agnostic de confirmation de l’infection maternel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évention de la transmission materno-fœta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agnostic de cette transmission materno-fœta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743200" y="91440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Cas cliniqu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3040" y="2638440"/>
            <a:ext cx="873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dame Dupont, 29 ans. Son premier enfant (3 ans) est actuellement à la crèche. Lors de l’échographie du 5ème mois, on note une anasarque foeto-placentai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irus probablement impliqué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agnostic et traite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080" y="166680"/>
            <a:ext cx="8989920" cy="6465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4920" y="5537160"/>
            <a:ext cx="2133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5410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Pleuré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5943600"/>
            <a:ext cx="2361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6019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Œdème du sca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3809880" cy="914400"/>
          </a:xfrm>
          <a:prstGeom prst="rect">
            <a:avLst/>
          </a:prstGeom>
          <a:solidFill>
            <a:srgbClr val="00002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28600"/>
            <a:ext cx="3276720" cy="703440"/>
          </a:xfrm>
          <a:prstGeom prst="rect">
            <a:avLst/>
          </a:prstGeom>
          <a:solidFill>
            <a:srgbClr val="000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cc"/>
                </a:solidFill>
                <a:latin typeface="Times New Roman"/>
              </a:rPr>
              <a:t>Œdème fœt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7840" y="230040"/>
            <a:ext cx="80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PREVENTION DES INFECTIONS MATERNOFO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4280" y="762120"/>
            <a:ext cx="851256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cc00"/>
                </a:solidFill>
                <a:uFillTx/>
                <a:latin typeface="Arial"/>
              </a:rPr>
              <a:t>1 - Surveillance des m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Statut immunitaire :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Rubéole (CMV - VZV - B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H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Dépistage des infections chroniques : HBV - H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Interrogatoire sur les récurrences d’Herpes génit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Diagnostic des primo-infections pendant la gross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Surveillance au moment de l’accouchement : lésions génitales (HS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cc00"/>
                </a:solidFill>
                <a:uFillTx/>
                <a:latin typeface="Arial"/>
              </a:rPr>
              <a:t>2 - Vacci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Mères - Rubé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Nouveaux-nés - HB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cc00"/>
                </a:solidFill>
                <a:uFillTx/>
                <a:latin typeface="Arial"/>
              </a:rPr>
              <a:t>3 -</a:t>
            </a:r>
            <a:r>
              <a:rPr b="1" lang="fr-FR" sz="2000" spc="-1" strike="noStrike" u="sng">
                <a:solidFill>
                  <a:srgbClr val="00cc00"/>
                </a:solidFill>
                <a:uFillTx/>
                <a:latin typeface="Times New Roman"/>
              </a:rPr>
              <a:t> </a:t>
            </a:r>
            <a:r>
              <a:rPr b="1" lang="fr-FR" sz="2000" spc="-1" strike="noStrike" u="sng">
                <a:solidFill>
                  <a:srgbClr val="00cc00"/>
                </a:solidFill>
                <a:uFillTx/>
                <a:latin typeface="Arial"/>
              </a:rPr>
              <a:t>Thérapeutique spécif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Mères pendant la grossesse - AZT + 3 TC + 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Nouveaux-nés :  aciclovir, AZ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28840" y="311040"/>
            <a:ext cx="807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Prévention de l’herpès génital des nouveaux-nés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149480"/>
            <a:ext cx="8991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Fréquence des diverses manifestations de 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               Estimations du risque      Conduite à teni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l’herpès génital chez les mères d’enfant infecté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                   d’herpès pour l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nouveau-né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I - Primo-infection symptomatique en prepartum               rare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          75 %                      Césarien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(ou dans le mois précédent)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Traitement oculai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du nouveau-né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Surveill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II - Récurrence symptomatique en prepartum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       2 à 5 %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 Césarien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(ou dans la semaine précédent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Surveillance du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  nouveau-né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III - Antécédents seuls d ’herpès génital (chez la 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      1 / 1000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Recherche 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mère ou son partenaire)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virus dans l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voies génita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pendant le trava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IV - Aucune manifestation clinique d’herpès génital     2/3 des cas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      1 / 10000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0,1 % à 1 % des femmes enceintes tout-venant ont une excrétion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 Les 2/3 des herpè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génitale asymptomatique d’HSV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néonataux échapp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à toute préven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1520" y="52642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920" y="191124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427356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330840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107316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564516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1073160"/>
            <a:ext cx="0" cy="457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68960" y="1073160"/>
            <a:ext cx="0" cy="457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1073160"/>
            <a:ext cx="0" cy="457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7800" y="1073160"/>
            <a:ext cx="0" cy="457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991720" y="1073160"/>
            <a:ext cx="0" cy="457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61200" y="152280"/>
            <a:ext cx="722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Accueil de tout nouveau-né à risqu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d’herpè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692280"/>
            <a:ext cx="862632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 la naissance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- examen clinique soigneux (peau ++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- savonnage à la chlorexydine ou à la Bétadine</a:t>
            </a:r>
            <a:r>
              <a:rPr b="1" lang="fr-FR" sz="1700" spc="-1" strike="noStrike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moussante, puis rinçage abondant et séchage soigneu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- pommade ophtalmique à l’aciclovi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Diagnostic virologique : à J0 (œil, rhinopharynx), puis J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Surveillance clinique et virologique pendant un moi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Information des parents sur les signes d’alarme et sur la surveilla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Inscription de l ’herpès maternel et des cultures faites sur le carnet de santé de l’enfa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Traitement par l’aciclovir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- à discuter selon les circonstances maternelles, le mode d ’accouchement et les facteurs additionnels de risqu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- toujours fait si signes cliniques et/ou cultures positiv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6000" y="2120760"/>
            <a:ext cx="883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590920"/>
            <a:ext cx="883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997360"/>
            <a:ext cx="883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3441600"/>
            <a:ext cx="883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4140360"/>
            <a:ext cx="883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5589720"/>
            <a:ext cx="883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72320" y="152280"/>
            <a:ext cx="639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0000"/>
                </a:solidFill>
                <a:latin typeface="Arial"/>
              </a:rPr>
              <a:t>Conseils de prévention de la primo-infection 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0000"/>
                </a:solidFill>
                <a:latin typeface="Arial"/>
              </a:rPr>
              <a:t>cytomégalovirus en cours de grosses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0000"/>
                </a:solidFill>
                <a:latin typeface="Arial"/>
              </a:rPr>
              <a:t>(hôpital Antoine-Béclère, 199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440" y="1384200"/>
            <a:ext cx="875052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cc00"/>
                </a:solidFill>
                <a:latin typeface="Arial"/>
              </a:rPr>
              <a:t>Précautions à prendre en l’absence d’immunité vis-à-vis du cytomégalovi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Lavez-vous fréquemment les mai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Si vous êtes en contact avec un enfant en bas âge, il est souhaitable de prendre des précautions particulières. En effet, surtout s’il fréquente une collectivité (crèche, garderie), il a pu être contaminé au contact des autres enfants. Dans ce cas, le virus reste présent dans sa salive et ses urines plusieurs moi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N’utilisez pas pour vous-même ses ustensiles de repas. Abstenez-vous de « goûter » les biberons ou les cuillerées d ’aliments et de sucer sa tét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N’utilisez pas non plus ses affaires de toilette (gant, serviette, brosse à dent) qui doivent lui être personnelles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Evitez de l’embrasser sur la bouch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Lavez-vous soigneusement les mains chaque fois que vous l’avez changé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Ces précautions s’appliquent aussi si vous êtes professionnellement en contact avec un ou plusieurs jeunes enfants. Elles sont à respecter jusqu’à l’accouche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31600" y="260280"/>
            <a:ext cx="30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CAS CLINIQU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1520" y="1003320"/>
            <a:ext cx="892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oici les résultats des sérologies virales réalisées lors du bilan systématique effectué en début de grossesse, à Mme X, 31 ans, primige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nticorps HIV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Néga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nticorps HCV :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Néga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nticorps CMV :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IgG Posi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gM Ab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nticorps Rubéole :  IgG : Posi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gM : Posi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mmentez ces résultats, conduite à teni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99800" y="609480"/>
            <a:ext cx="30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CAS CLINIQU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447920"/>
            <a:ext cx="858816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Mme O, 24 ans, primigeste enceinte de 5 semaines, est vue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consultation pour une déclaration de grossesse. On note da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ses antécédents un herpès génital récurrent. Les résultats d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examens biologiques demandés sont les suivant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fr-FR" sz="2000" spc="-1" strike="noStrike">
                <a:solidFill>
                  <a:srgbClr val="00cc00"/>
                </a:solidFill>
                <a:latin typeface="Monotype Sorts"/>
                <a:ea typeface="Monotype Sorts"/>
              </a:rPr>
              <a:t>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épistage VIH :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echnique 1 : négatif, technique 2 : nég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fr-FR" sz="2000" spc="-1" strike="noStrike">
                <a:solidFill>
                  <a:srgbClr val="00cc00"/>
                </a:solidFill>
                <a:latin typeface="Monotype Sorts"/>
                <a:ea typeface="Monotype Sorts"/>
              </a:rPr>
              <a:t>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épistage VHC :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echnique 1 : négatif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fr-FR" sz="2000" spc="-1" strike="noStrike">
                <a:solidFill>
                  <a:srgbClr val="00cc00"/>
                </a:solidFill>
                <a:latin typeface="Monotype Sorts"/>
                <a:ea typeface="Monotype Sorts"/>
              </a:rPr>
              <a:t>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ubéole :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gG négatif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gM nég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fr-FR" sz="2000" spc="-1" strike="noStrike">
                <a:solidFill>
                  <a:srgbClr val="00cc00"/>
                </a:solidFill>
                <a:latin typeface="Monotype Sorts"/>
                <a:ea typeface="Monotype Sorts"/>
              </a:rPr>
              <a:t>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MV :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gG négatif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gM nég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fr-FR" sz="2000" spc="-1" strike="noStrike">
                <a:solidFill>
                  <a:srgbClr val="00cc00"/>
                </a:solidFill>
                <a:latin typeface="Monotype Sorts"/>
                <a:ea typeface="Monotype Sorts"/>
              </a:rPr>
              <a:t>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xoplasmose :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gG négatif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gM nég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fr-FR" sz="2000" spc="-1" strike="noStrike">
                <a:solidFill>
                  <a:srgbClr val="00cc00"/>
                </a:solidFill>
                <a:latin typeface="Monotype Sorts"/>
                <a:ea typeface="Monotype Sorts"/>
              </a:rPr>
              <a:t>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DRL négatif, TPHA nég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mmentaires à propos des résultats sérologiques.  Prévention de l’herpes néo-nata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8400" y="1143000"/>
            <a:ext cx="30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CAS CLINIQU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8040" y="2666880"/>
            <a:ext cx="845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Une jeune mère de famille de 35 ans, en fin de grosse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(36 SA) vient vous consulter car son 1er enfant a une varicelle. Elle n’a aucun souvenir d’avoir eu elle-même cette mala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nduite à teni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isque de transmission du VZV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éven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367080" y="190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Cas cliniqu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9680" y="620640"/>
            <a:ext cx="885816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adame Durand, 33 ans, est suivie pendant sa grossesse par son médecin généraliste. Elle se présente en consultation à 33 SA (semaines d’aménorrhée). Les résultats des sérologies virales réalisées à 10 SA sont les suivan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ticorps anti-HIV: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echnique 1 : Abs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echnique 2 : Abs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ticorps anti virus de la rubéole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gG : 145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gM : Abs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ticorps anti CMV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gG : Prés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gM : Abs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derniers résultats qu’elle présente sont les suivan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ticorps anti HCV : néga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tigène HBs : posi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c anti HBs : nég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c anti HBc : posi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5652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Quels sont les risques viraux pour l’enfant ? Comment les prévenir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RO-ASSISTANT</cp:lastModifiedBy>
  <cp:lastPrinted>2004-05-05T09:45:44Z</cp:lastPrinted>
  <dcterms:modified xsi:type="dcterms:W3CDTF">2009-03-23T09:09:55Z</dcterms:modified>
  <cp:revision>116</cp:revision>
  <dc:subject/>
  <dc:title>Aucun titre de diapositive</dc:title>
</cp:coreProperties>
</file>