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6DF-FC1C-4240-A6FD-1D182FE5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5BE-0994-4AAF-BF8C-601B309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F13-F9B3-4344-92C0-CFF36ED3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4D7-9ABC-4982-A4DF-705A78A0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E1F-DC0A-4FA3-BCF8-4B107BA8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896-5FC4-4BE9-A22B-736720C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1C0-28D3-42DC-B5DF-045994A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6DC-EB48-4DBB-BA29-BF572AC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7B7-ED83-48C0-88A5-8CC23AC1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C69-B142-45EF-931B-AC0EBBF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5DB-E328-4D98-AA6C-8A6357B0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646-8F04-470B-A787-0B264F2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7663-8845-46B0-8D8E-262C4C056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us des transplantés et des immunodéprim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914400"/>
            <a:ext cx="22100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914400"/>
            <a:ext cx="2286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lè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914400"/>
            <a:ext cx="2209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nostic au La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523880"/>
            <a:ext cx="2210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152388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 -U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R - L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523880"/>
            <a:ext cx="2209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érodiagnos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qualitative 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666880"/>
            <a:ext cx="22100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B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2666880"/>
            <a:ext cx="2286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 ED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666880"/>
            <a:ext cx="2209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érodiagnos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qualitative 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733920"/>
            <a:ext cx="2210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733920"/>
            <a:ext cx="2286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R – LBA-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3733920"/>
            <a:ext cx="2209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572000"/>
            <a:ext cx="2210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Z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4572000"/>
            <a:ext cx="2286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R – LBA-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410080"/>
            <a:ext cx="22100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5410080"/>
            <a:ext cx="2286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rge - s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R - L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7440" y="4568760"/>
            <a:ext cx="22100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5397480"/>
            <a:ext cx="2209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99072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r S, 22 ans, est sous cortico-thérapie pour sa maladie de Crohn . Il consulte son médecin pour une fièvre élevée associée à une éruption vésiculo-pustuleuse. Il présente rapidement des difficultés respiratoires, il est hospitalisé d’urgence en réani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653000"/>
            <a:ext cx="7748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l(s) virus suspectez v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Diagnostiqu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se en charge thérapeut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1371600"/>
            <a:ext cx="8229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 mois après sa transplantation pulmonaire, un homme présente une pneumopathie aiguë avec fièv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 Quels peuvent être les virus en ca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/ Diagnostic virolog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/ Le résultat est en faveur d’une infection à HSV. Trait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914400"/>
            <a:ext cx="842472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 ’enfant B. Gael, 2 ans, est hospitalisé en juin dans le service d ’hémato-oncologie pédiatrique pour rechute de sa leucémie aiguë. Il est traité par chimiothérapie qui conduit à une leucopénie (GB : 1000/mm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n juillet, il présente une altération de l’état général avec fièvre, syndrome dysentérique et respiratoire associés à une hépatite aiguë (TGP &gt; 1000, bilirubine &gt; 10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081760"/>
            <a:ext cx="7748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l(s) virus suspectez v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Diagnostiqu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se en charge thérapeut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13716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r H., 30 ans vient de subir une greffe moelle avec succès. 15 jours après sa greffe, il est hospitalisé pour fièvre associée à des difficultés respiratoires. La radio retrouve des manifestations de pneumopathie interstitielle. La recherche du CMV dans le LBA est nég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3716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me M., 57 ans a bénéficié d ’une greffe rénale après 5 années de dialyse. 2 mois après sa greffe, elle hospitalisée pour cystite hémorragique fiévreuse. La créatinine est très augmentée. L ’échographie rénale montre une sténose urétérale. L ’examen cytologique des urines montre la présence de decoy cel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4883040"/>
            <a:ext cx="829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l(s) virus suspectez v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Diagnostiques et prise en charge thérapeut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vi virologique de l’efficacité du trait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137160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r H., 28 ans est greffé rénale depuis 4 ans. Il consulte pour fatigue, ictère, arthralgies et myalgies diffuses et une perte de poids de 8kg en 1 mois. le bilan met en évidence une cytolyse hépatique (ALAT à 770 UI/ml). La créatinine sérique est élev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/ Quels peuvent-être les virus en caus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/ Diagnostic virologique de ces infection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3/ La recherche de l’ARN HEV et des Ac IgM anti-HEV est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olution de cette patholog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1243080"/>
            <a:ext cx="82296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r Z., 53 ans, infecté par le HBV depuis 20 ans, était porteur d ’une cirrhose lorsque son infection par le HBV fût découverte. Sa maladie ayant évolué rapidement vers un hépatocarcinome, il nécessite une greffe hépatiqu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Quel est le risque de récidive du HBV sur le greff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. Quelle en est l ’évolution potentiel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3. Quel traitement proposez-vous pour prévenir cette récidive sur greffon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143000"/>
            <a:ext cx="82296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r J., 20 ans, greffé de moelle, développe à une encéphalite à CMV, 50 jours après sa greffe. On lui administre du Ganciclovir par voie IV mais il décède après 7 jours de traite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 Comment expliquez-vous ce décè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. Quels examens virologiques permettraient d ’étayer votre hypothè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3. Quelle alternative thérapeutique auriez-vous pu adopter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100080"/>
            <a:ext cx="89996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0200" y="152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ticorps EB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2952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s habitu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362320"/>
            <a:ext cx="6858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C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C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         EB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g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éronégati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oinfe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ection ancien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-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kit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209680"/>
            <a:ext cx="73915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200400"/>
            <a:ext cx="73915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248520"/>
            <a:ext cx="73915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049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jectifs du diagnostic d’une cytomégalovir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82296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ulte 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d’un syndrome mononucléos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’une ang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’une asthé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’une cytolyse hépat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’une lymphocyt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éropositif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d’une colite, choriorétinite, pneumopathi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emme encei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d’une cytomégalovirose pendant la gross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uveau-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d’une cytomégalovirose congénitale ou néonat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6920" y="4762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chniques du 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989000"/>
            <a:ext cx="762012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élè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in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B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quide amnio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ops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iagnostic 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CR (+/- cul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iagnostic 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gG, IgM, Avidité des I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-27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duite à tenir pour une gref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549360"/>
            <a:ext cx="84247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1 - Bilan d’immunit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v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2 - Diagnostic d’une maladie à CMV au décours de la gref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.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effe orga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contrô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tous les 15 jours/pendant 3 m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tous les mois jusqu’à 6 mois, à 12 m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devant tout signe clinique évocat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.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effe de moëlle osse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ôles 1 fois/semaine jusqu’à J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fois par semaine en cas de positivi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3 - Surveillance d’un tra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itemen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ophylactique (3 mo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éemp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uratif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nitié après confirmation du diagnostic) (GCV IV 15 jo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rveilla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fois/semaine (2 fois dans GMO) / Jusqu’à négativation de la vir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sistance suspectée uniquement en cas de réactivation (c’est à dire si 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fection au cours du sui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981000"/>
            <a:ext cx="7543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r E. , 48 ans est greffé de moelle depuis 4 mois. Il présentait depuis une dizaine de jours une fièvre (38°5) et une cytolyse hépatique modérée oscillante. Depuis 2 jours sont apparus des signes cliniques et radiologiques de pneumopathie interstitielle. Le bilan biologique retrouve une leucopén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8040" y="4941720"/>
            <a:ext cx="82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l(s) virus suspectez v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Diagnostiques et prise en charge thérapeut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vi virologique de l’efficacité du trait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001880"/>
            <a:ext cx="8286480" cy="54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Kévin 16 ans, greffé depuis 2 mois est amené par ses parents car il est fébrile et fatigué depuis plus d’une semaine. L ’examen retrouve une angine érythémato-pultacée des adénopathies cervicales et occipitales et une splénomégalie modérée. L’interrogatoire retrouve un épisode d’exanthème du tronc. Le bilan biologique réalisé retrouve à l’hémogramme un syndrome mononucléosique et une élévation des transamin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/ Quels virus suspectez 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/ Diagnostic vir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3/ Traitement et évolution de cette primo-inf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3f6a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 clinique N°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21932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r Léopold, 50 ans, a subi une intervention à cœur ouvert en Novembre. Il présente 40 jours après une fièvre persistante avec légère augmentation des transaminases, mononucléose sanguine et hémocultures nég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8040" y="4853160"/>
            <a:ext cx="8296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l(s) virus suspectez vou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 Diagnostiques et prise en charge thérapeut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vi virologique de l’efficacité du trait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03:49Z</dcterms:created>
  <dc:creator>Laurence SIMET</dc:creator>
  <dc:description/>
  <dc:language>en-US</dc:language>
  <cp:lastModifiedBy>VIRO-ASSISTANT</cp:lastModifiedBy>
  <cp:lastPrinted>2004-03-23T10:38:31Z</cp:lastPrinted>
  <dcterms:modified xsi:type="dcterms:W3CDTF">2008-11-13T16:13:38Z</dcterms:modified>
  <cp:revision>102</cp:revision>
  <dc:subject/>
  <dc:title>Aucun titre de diapositive</dc:title>
</cp:coreProperties>
</file>