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272-159F-4CDC-814F-48BB72BC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EFB-E942-4702-8788-48685A9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B35-7704-442C-BC13-6FC775CB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EC8-D2FC-4454-8AC5-C0A02DE0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AB9-884D-4A2B-9292-1EE9D0C5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F82-F0F5-4D60-9462-1B79B82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CA3-104D-4C78-8059-DC00566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58B-BC50-46EB-A10A-F283C91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C28-5E84-4A22-8C9C-9B69E4E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39C-CB72-4D44-8BB7-7503AF5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12F-979E-494F-882F-260EED6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84D-14BA-4F2E-A71D-8F0447DE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5AF-E47F-46C6-984F-BDE9F0FD4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entérovirus (#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37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666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us non enveloppés (résist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35268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amination oro-pharyngée +++ (aérien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962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ervoir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démies des régions sub-tropi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pidémies saisonnières Europe (été-autom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us à 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oliovirus (3 sérotypes), entérovirus autres (&gt; 70 séroty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 poliovi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s asymptomatiques prédo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82880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omyélite (1%) : paralysie flasque, atteinte des cornes antérieures, inefficacité du 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gression avec séque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27672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agnostic : gorge, selles, L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solement et séroneutralisation (ty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87692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accin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accin inactivé inje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accin atténué per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entérovirus (#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219320"/>
            <a:ext cx="32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2133720"/>
            <a:ext cx="3276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cation virale pharynx et inte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3276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ygdales et ganglions cervica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505320"/>
            <a:ext cx="3276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ques de Peyer et ganglions mésent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648320"/>
            <a:ext cx="32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iré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715000"/>
            <a:ext cx="2209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89548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422604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57440" y="4267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5181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71500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715000"/>
            <a:ext cx="2209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D, peau, fo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95480" y="518148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1814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érovirus aut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447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ables des méningites lymphocytaires chez l’enfant +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209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intes spécifi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xsackie A : Herpangine, éruptions cutanées, main-pied-bouche, conjonctivite hémorra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429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xsackie B : Myocardites, péricardites , hépat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038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cho : exanthèmes de BO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ntéro 68-71 : conjonctivites hémorragiques, bronchio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029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intes non spécifiques : Méningites, diarrhées, paralysies sans séquelles, infections néona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fections chroniques : patho neuro-musculaires (périmyosites, DID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6:13:09Z</dcterms:created>
  <dc:creator>RETROVIRUS</dc:creator>
  <dc:description/>
  <dc:language>en-US</dc:language>
  <cp:lastModifiedBy>Votre nom d'utilisateur</cp:lastModifiedBy>
  <dcterms:modified xsi:type="dcterms:W3CDTF">2008-01-30T14:49:10Z</dcterms:modified>
  <cp:revision>9</cp:revision>
  <dc:subject/>
  <dc:title>Aucun titre de diapositive</dc:title>
</cp:coreProperties>
</file>