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png" ContentType="image/png"/>
  <Override PartName="/ppt/media/image24.jpeg" ContentType="image/jpeg"/>
  <Override PartName="/ppt/media/image21.jpeg" ContentType="image/jpeg"/>
  <Override PartName="/ppt/media/image19.jpeg" ContentType="image/jpeg"/>
  <Override PartName="/ppt/media/image4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2.png" ContentType="image/png"/>
  <Override PartName="/ppt/media/image10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2.jpeg" ContentType="image/jpeg"/>
  <Override PartName="/ppt/media/image36.jpeg" ContentType="image/jpeg"/>
  <Override PartName="/ppt/media/image30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20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25.jpeg" ContentType="image/jpeg"/>
  <Override PartName="/ppt/media/image41.png" ContentType="image/png"/>
  <Override PartName="/ppt/media/image43.jpeg" ContentType="image/jpeg"/>
  <Override PartName="/ppt/media/image7.jpeg" ContentType="image/jpeg"/>
  <Override PartName="/ppt/media/image38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13CB-A96C-4469-B9A7-E382893BA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80AA-7C2A-4D72-8B41-14F6974A5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C840-1F01-467B-AE95-E1CE8B402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2C44-8276-45AE-BFCD-62282EA37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533C-A097-4A74-8007-8F10B56E6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39F6-B294-4699-89AD-82C380289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AB57-D954-4F76-B878-44008979F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EAA9-2384-4E17-9343-A441A93B3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DD8B-940A-42D9-A955-B17B4CB73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32AA-8E4D-497F-8EC0-6BDA05C2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85D3-7189-4254-9C89-C4E12F914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D473-BD41-443C-B4E3-37A2FD088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D576D-5B10-4159-A21D-0D34CF0786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5080" y="222120"/>
            <a:ext cx="87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BJECTIFS DES EXAMENS VIROLOG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2000" y="1050840"/>
            <a:ext cx="8818560" cy="43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 - Diagnostic d’une infection virale pour laquelle un traitement spécifique est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 - Surveillance du traitement entrep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 - Diagnostic différentiel d’infection due à un autre agent microbi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 - Diagnostic indispensable en vue de la mise en œuvre de mesures préventives pour l’entou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 - Bilan d’immunité avant ou après vacc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6 - Suivi épidémiologique (ex. rougeole, rubéo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7040" y="458640"/>
            <a:ext cx="4219560" cy="2997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rcRect l="14985" t="11621" r="3879" b="0"/>
          <a:stretch/>
        </p:blipFill>
        <p:spPr>
          <a:xfrm>
            <a:off x="4762440" y="604800"/>
            <a:ext cx="4219560" cy="2970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rcRect l="0" t="9590" r="0" b="9590"/>
          <a:stretch/>
        </p:blipFill>
        <p:spPr>
          <a:xfrm>
            <a:off x="1916280" y="3805200"/>
            <a:ext cx="520056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806480" y="177840"/>
            <a:ext cx="55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0000"/>
                </a:solidFill>
                <a:latin typeface="Times New Roman"/>
              </a:rPr>
              <a:t>Cas clinique 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720" y="914400"/>
            <a:ext cx="8558280" cy="36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</a:rPr>
              <a:t>Chez une patiente de 30 ans à partenaires sexuels multiples et ayant des antécédents de maladies sexuellement transmissibles (gonococcie) est réalisé un frottis cervico-vaginal systématique : il révèle une dysplasie de grade 2 (CIN 2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</a:rPr>
              <a:t>Une colposcopie (examen direct du col avant coloration au Lugol) est effectuée et montre des lésions planes Lugol - 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</a:rPr>
              <a:t>Une biopsie est alors réalisé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52320" y="5025960"/>
            <a:ext cx="7128000" cy="14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1. Quel type de virus recherchez-vous 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2. Quel(s) outil(s) diagnostic utilisez-vous 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3. Que préconisez-vous comme traitement ?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434960" y="1057320"/>
            <a:ext cx="63658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63840" y="480960"/>
            <a:ext cx="4236840" cy="59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68360" y="1817640"/>
            <a:ext cx="4607280" cy="32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92040" y="1427040"/>
            <a:ext cx="841212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r H., 77 ans, présente depuis 48 h une éruption douloureuse de localisation thoracique droite. L’inspection retrouve des vésicules, quelques bulles sur un fond érythémateux. L’éruption est unilatérale en hémiceintu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’examen retrouve une hyperesthésie localisée dans le même territoire et une fièvre modérée. Mr H. n’a jamais présenté d’éruption semblable et n’a pas d’antécédents particuli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l virus suspectez vou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utils diagnostique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raitement et prophylaxi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09760" y="371520"/>
            <a:ext cx="628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as clinique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3760" y="339840"/>
            <a:ext cx="9120240" cy="61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87520" y="3097080"/>
            <a:ext cx="4822560" cy="32464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532400" y="679320"/>
            <a:ext cx="336060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01760" y="395280"/>
            <a:ext cx="481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as clinique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6200" y="1639800"/>
            <a:ext cx="7805520" cy="45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’enfant Y. , 7 ans, présente une éruption vésiculeuse ayant débuté au niveau de la tête et évoluant par poussées depuis 2 jours. L’éruption couvre tout le corps et est associée à un prurit. Une fièvre à 38° c est retrouvée. L’état général est bien conserv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Quel virus suspectez vou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utils diagnostiqu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raitement et prophylaxi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732040" y="709560"/>
            <a:ext cx="36799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19360" y="114480"/>
            <a:ext cx="604980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VIRUS DES ERU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2200" y="874800"/>
            <a:ext cx="8559720" cy="58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fff66"/>
                </a:solidFill>
                <a:latin typeface="Times New Roman"/>
              </a:rPr>
              <a:t>Eruptions vesiculo-pustule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i="1" lang="fr-FR" sz="2400" spc="-1" strike="noStrike">
                <a:solidFill>
                  <a:srgbClr val="ffff66"/>
                </a:solidFill>
                <a:latin typeface="Times New Roman"/>
              </a:rPr>
              <a:t>Poxvi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66"/>
                </a:solidFill>
                <a:latin typeface="Times New Roman"/>
              </a:rPr>
              <a:t>HSV-1 -- HSV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66"/>
                </a:solidFill>
                <a:latin typeface="Times New Roman"/>
              </a:rPr>
              <a:t>V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i="1" lang="fr-FR" sz="2400" spc="-1" strike="noStrike">
                <a:solidFill>
                  <a:srgbClr val="ffff66"/>
                </a:solidFill>
                <a:latin typeface="Times New Roman"/>
              </a:rPr>
              <a:t>Enterovi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ccecff"/>
                </a:solidFill>
                <a:latin typeface="Times New Roman"/>
              </a:rPr>
              <a:t>Eruptions maculopapule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ccecff"/>
                </a:solidFill>
                <a:latin typeface="Times New Roman"/>
              </a:rPr>
              <a:t>Rubé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ccecff"/>
                </a:solidFill>
                <a:latin typeface="Times New Roman"/>
              </a:rPr>
              <a:t>Rouge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ccecff"/>
                </a:solidFill>
                <a:latin typeface="Times New Roman"/>
              </a:rPr>
              <a:t>HHV-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i="1" lang="fr-FR" sz="2400" spc="-1" strike="noStrike">
                <a:solidFill>
                  <a:srgbClr val="ccecff"/>
                </a:solidFill>
                <a:latin typeface="Times New Roman"/>
              </a:rPr>
              <a:t>Parvovirus B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i="1" lang="fr-FR" sz="2400" spc="-1" strike="noStrike">
                <a:solidFill>
                  <a:srgbClr val="ccecff"/>
                </a:solidFill>
                <a:latin typeface="Times New Roman"/>
              </a:rPr>
              <a:t>Enterovi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i="1" lang="fr-FR" sz="2400" spc="-1" strike="noStrike">
                <a:solidFill>
                  <a:srgbClr val="ccecff"/>
                </a:solidFill>
                <a:latin typeface="Times New Roman"/>
              </a:rPr>
              <a:t>Adenovi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ccecff"/>
                </a:solidFill>
                <a:latin typeface="Times New Roman"/>
              </a:rPr>
              <a:t>VI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9966"/>
                </a:solidFill>
                <a:latin typeface="Times New Roman"/>
              </a:rPr>
              <a:t>Tumeurs cutanées bénig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9966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9966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9966"/>
                </a:solidFill>
                <a:latin typeface="Times New Roman"/>
              </a:rPr>
              <a:t>Verrues - </a:t>
            </a:r>
            <a:r>
              <a:rPr b="1" i="1" lang="fr-FR" sz="2400" spc="-1" strike="noStrike">
                <a:solidFill>
                  <a:srgbClr val="ff9966"/>
                </a:solidFill>
                <a:latin typeface="Times New Roman"/>
              </a:rPr>
              <a:t>Papillomavirus</a:t>
            </a:r>
            <a:r>
              <a:rPr b="1" lang="fr-FR" sz="2400" spc="-1" strike="noStrike">
                <a:solidFill>
                  <a:srgbClr val="ff9966"/>
                </a:solidFill>
                <a:latin typeface="Times New Roman"/>
              </a:rPr>
              <a:t> typ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9966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9966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9966"/>
                </a:solidFill>
                <a:latin typeface="Times New Roman"/>
              </a:rPr>
              <a:t>Molluscum contagios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200240" y="949320"/>
            <a:ext cx="674352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-431640" y="0"/>
            <a:ext cx="1012644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841400" y="360360"/>
            <a:ext cx="5697720" cy="630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84280" y="1622520"/>
            <a:ext cx="6343560" cy="42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471760" y="343080"/>
            <a:ext cx="42004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068560" y="0"/>
            <a:ext cx="5006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176560" y="333360"/>
            <a:ext cx="449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Cas clinique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2165400"/>
            <a:ext cx="847584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vril 98. L’enfant S. , 5 ans, présente depuis 24 h une éruption maculeuse rose pâle généralisée. Cette éruption est associée à des adénopathies cervicales multiples et à une légère fièvre. Vous évoquez le diagnostic de rubéo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utils diagnostique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raitement et prévention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95440" y="396720"/>
            <a:ext cx="3760560" cy="5715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900680" y="2138400"/>
            <a:ext cx="307980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251080" y="198360"/>
            <a:ext cx="456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as clinique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30360" y="1398600"/>
            <a:ext cx="816588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’enfant P. , 18 mois, présente une éruption rubéoliforme du cou et du tronc survenant après 3 jours de fièvre à 39,5° c. L’examen ne retrouve pas de foyers infectieux. Un exanthème subit ou roséole infantile est évoqu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 - Quel est l’agent de l’exanthème subit du nourrisson ou  6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èm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maladie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 - Ce virus est-il fréquemment rencontré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369040" y="1498680"/>
            <a:ext cx="2751120" cy="43308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670800" y="2244600"/>
            <a:ext cx="631800" cy="17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158840" y="1428840"/>
            <a:ext cx="283068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693880" y="625320"/>
            <a:ext cx="3638520" cy="53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077920" y="160200"/>
            <a:ext cx="531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as clinique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80960" y="1176480"/>
            <a:ext cx="811548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L’enfant K. , 6 ans, vous est amené parce qu’il est fébrile (39,6 ° c) et présente un catarrhe oculo-respiratoire avec toux évoluant depuis 48 heures. Il ne mange plus et est grognon. Deux jours plus tard apparaît une éruption maculopapuleuse, non prurigineuse, débutant à la tête et s’étendant au thorax et aux memb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1- Quelle question devez-vous poser en priorité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2 - Quel est le diagnostic le plus probabl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3 - Quels sont les moyens à mettre en œuvre pour étayer le diagnostic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941400" y="839880"/>
            <a:ext cx="2527200" cy="4265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164040" y="3071880"/>
            <a:ext cx="2846160" cy="34639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5132520" y="452520"/>
            <a:ext cx="37494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rcRect l="0" t="20682" r="12752" b="0"/>
          <a:stretch/>
        </p:blipFill>
        <p:spPr>
          <a:xfrm>
            <a:off x="577800" y="665280"/>
            <a:ext cx="718020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880920" y="628560"/>
            <a:ext cx="7504200" cy="57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757520" y="309600"/>
            <a:ext cx="564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Cas clinique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3560" y="1409760"/>
            <a:ext cx="838836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r Y, 36 ans, est un patient infecté par le VIH. Il s’est contaminé il y a 7 ans à la suite de relations homosexuelles. Il est actuellement très immunodéprimé avec un taux de CD4 à 65/mm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 Il présente des lésions cutanées multiples à type de tumeurs ulcérovégétantes violines d’aspect angiomateux. L’examen histologique réalisé sur la biopsie cutanée confirme le diagnostic de maladie de Kapos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 savez-vous du virus impliqué dans la sarcome de Kaposi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55840" y="0"/>
            <a:ext cx="58770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330280" y="179280"/>
            <a:ext cx="4416480" cy="648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66800" y="471600"/>
            <a:ext cx="5029200" cy="32796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562640" y="4189320"/>
            <a:ext cx="344160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515680" y="773280"/>
            <a:ext cx="353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Cas clinique 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7240" y="2216160"/>
            <a:ext cx="7564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Un enfant de 6 ans présente de la fièvre et une altération de l’état général. Quelque jours plus tard apparaît une éruption maculo-papuleuse au niveau des joues puis du tronc. Une infection à Parvovirus B19 est suspecté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Outils diagnostique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Traitement et prophylaxi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Autres signes cliniques possible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441440" y="598320"/>
            <a:ext cx="2303640" cy="25624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295800" y="3613320"/>
            <a:ext cx="2535120" cy="2893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408640" y="453960"/>
            <a:ext cx="269856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849400" y="722160"/>
            <a:ext cx="3562560" cy="53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270160" y="466560"/>
            <a:ext cx="4613400" cy="611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357280" y="162000"/>
            <a:ext cx="442944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87560" y="706320"/>
            <a:ext cx="635472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527120" y="847800"/>
            <a:ext cx="6257880" cy="43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73120" y="925560"/>
            <a:ext cx="811836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612880" y="790560"/>
            <a:ext cx="364968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311120" y="260280"/>
            <a:ext cx="645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as cliniqu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0760" y="1743120"/>
            <a:ext cx="8385120" cy="43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’enfant A, 4 ans, présente une stomatite fébrile avec dysphagie. L’examen clinique retrouve des vésicules au niveau du pharynx, du palais et des amygdales, et des adénopathies cervicales douloureu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Quel virus suspectez vou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utils diagnostique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raitement et prophylaxi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93760" y="446040"/>
            <a:ext cx="8850240" cy="57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09760" y="3776760"/>
            <a:ext cx="3484440" cy="2544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Fig. 3 Another example of PHG showing large edematous interdental papillae which is one of the salient clinical appearances of this disease. "/>
          <p:cNvPicPr/>
          <p:nvPr/>
        </p:nvPicPr>
        <p:blipFill>
          <a:blip r:embed="rId2"/>
          <a:srcRect l="0" t="0" r="0" b="6808"/>
          <a:stretch/>
        </p:blipFill>
        <p:spPr>
          <a:xfrm>
            <a:off x="4078440" y="303120"/>
            <a:ext cx="461772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8T10:51:52Z</dcterms:created>
  <dc:creator>Laurence SIMET</dc:creator>
  <dc:description/>
  <dc:language>en-US</dc:language>
  <cp:lastModifiedBy>VIRO-ASSISTANT</cp:lastModifiedBy>
  <cp:lastPrinted>2002-02-04T08:44:48Z</cp:lastPrinted>
  <dcterms:modified xsi:type="dcterms:W3CDTF">2009-02-16T09:20:36Z</dcterms:modified>
  <cp:revision>78</cp:revision>
  <dc:subject/>
  <dc:title>Aucun titre de diapositive</dc:title>
</cp:coreProperties>
</file>